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1CB-F631-43F4-99BE-DE01596E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DD6-6518-4DDA-A88D-C72C3AB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03C-28DC-4187-BA01-450817E7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779-6EB9-453A-B448-7CA294C3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6F85-5397-430E-95D8-18EE074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FC2-CE27-4C11-8FA6-0FBCF438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88C-4D1C-4CC7-92EB-D0E41CCB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3D62-8095-4C54-AD28-9B2A394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5FD-42DB-4862-88A9-649022A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E38-778C-44E4-B636-95C60F4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42EA-DE3D-4D27-9EE5-B90C7BD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9CE-F6C3-4DD7-B986-4C30C4A0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4973-ACFB-4A36-B91F-7BE4B12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67F-06BA-45BA-84BE-4020835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B634-4194-48A5-9CFF-80A5F7D4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A8E-0FD4-4AF3-B927-8DBE9709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798-9271-46DF-A443-F88C40AD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F87-87C6-4848-9677-32685E2F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5E9-3769-4580-B49F-39B3567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689-08CA-425D-B1E6-366178F2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29D-B4BD-430A-9B29-B805AC30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3C4-646C-4789-B486-88AD5B2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C55-1664-413C-8A23-5516D5A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0A4-6D1A-40B4-AB7F-BFBD2B8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306A5-043B-4F1B-9C3A-291DA3217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3C38-6A69-458F-B045-3672C85ED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706320"/>
            <a:ext cx="86756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a and Pop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Bea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ose who defied the social expectations        of conformity; Beatni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Art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o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“Hippies”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African American Entertai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792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African Americans shut        out of tel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Musical artists did not          have as much                      trou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Chuck Ber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Little Rich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Ray Char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Influenced future musical     art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19880" y="2158920"/>
            <a:ext cx="4057560" cy="41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what          caused the baby b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how          the workplace changed during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           changes in media in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New Mass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o more than 8,000 TVs in America in       19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By 1957 nearly 40 million TVs were s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More than 80% of families had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Tele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“Golden Age” of tele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Love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one R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ckey Mouse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ore people watched a single episod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   Love Luc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the presidential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inau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Late 1950s, news and sports become             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440" y="363600"/>
            <a:ext cx="8831160" cy="69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Mov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ovie industry took a hit because of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3-D movies created to try and bring peopl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Cinemascope brought people back to the mo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ide scre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ull of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1671480"/>
            <a:ext cx="3886200" cy="54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42960"/>
            <a:ext cx="86724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Rad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612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Broadcast news, weather, sports, and talk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Radio was saved by the automob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eople listen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the radio while in the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umber of stations doubled between 1948  and 1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19880" y="2454120"/>
            <a:ext cx="4055760" cy="35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Rock 'n' 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ame from rhythm and b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DJ Alan Freed dubbed it rock 'n' 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Generation gap between teens and parent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73880" y="2179800"/>
            <a:ext cx="4319280" cy="44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79488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792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arents hat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Delinqu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Immor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Concerts ban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lvis Presley first         rock 'n' roll h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86400" y="2128680"/>
            <a:ext cx="41148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07:15Z</dcterms:created>
  <dc:creator>Courtney Huro</dc:creator>
  <dc:description/>
  <dc:language>en-US</dc:language>
  <cp:lastModifiedBy>School District U46</cp:lastModifiedBy>
  <dcterms:modified xsi:type="dcterms:W3CDTF">2011-03-15T13:31:24Z</dcterms:modified>
  <cp:revision>4</cp:revision>
  <dc:subject/>
  <dc:title>Slide 1</dc:title>
</cp:coreProperties>
</file>